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49B1-C6D5-4D93-849E-AE2D08752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5B6A-D69C-4B49-B75B-22533E9F9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5C03-1D0A-431F-A801-F86663D2A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5255-92D8-45DC-B258-4B21145A5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608B-3C98-4FB0-ABED-CCEBC011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280C2-EC24-4146-A6D0-807BC0AB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DD11-FE0F-472E-A4A2-4C98AA85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B4C98-1D3C-418B-BC2A-1569194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C85FF-2332-4107-96B7-C266D3C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88D63-358C-4D42-A1C5-D892B57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03E2B-87B9-48C5-803C-967403C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D94A-3C2D-4CB3-B45C-D0B16EBAC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94B2B-307B-404F-A4C3-C1D72F0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66D36-A587-4A00-89B3-3978E06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E325B-4CA3-463B-AFE2-9397767E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C393D-916F-4451-B64A-4C224A78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33523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54298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04B67-A939-4987-8848-34107C52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A7E7-EA2C-4969-A97C-816FD4EAF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CCA8-7290-4D9B-AC5F-A4A8C362E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D711-17CE-4985-85BB-EF37B557B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9719-7B5D-4254-A54B-1FEBF414E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4ED5-BC65-4D10-8283-E115B91F8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54298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12B7-54E9-46D0-8A34-25906BD4A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33523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54298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5CC5-F081-46CD-B617-1A91E8EE8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29600" cy="10792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52320"/>
            <a:ext cx="8229600" cy="3977280"/>
          </a:xfrm>
          <a:prstGeom prst="rect">
            <a:avLst/>
          </a:prstGeom>
          <a:solidFill>
            <a:srgbClr val="000000">
              <a:alpha val="67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1" marL="114480" indent="1440">
              <a:spcBef>
                <a:spcPts val="700"/>
              </a:spcBef>
              <a:buClr>
                <a:srgbClr val="e4a20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2" marL="345960">
              <a:spcBef>
                <a:spcPts val="700"/>
              </a:spcBef>
              <a:buClr>
                <a:srgbClr val="e4a20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3" marL="568440">
              <a:spcBef>
                <a:spcPts val="700"/>
              </a:spcBef>
              <a:buClr>
                <a:srgbClr val="e4a20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4" marL="798480">
              <a:spcBef>
                <a:spcPts val="700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5" marL="798480">
              <a:spcBef>
                <a:spcPts val="700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  <a:p>
            <a:pPr lvl="6" marL="798480">
              <a:spcBef>
                <a:spcPts val="700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a20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0FE6-2993-4809-9B45-E57CBA8A4308}" type="slidenum"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981080" y="380880"/>
            <a:ext cx="7162920" cy="838440"/>
            <a:chOff x="1981080" y="380880"/>
            <a:chExt cx="7162920" cy="838440"/>
          </a:xfrm>
        </p:grpSpPr>
        <p:sp>
          <p:nvSpPr>
            <p:cNvPr id="5" name=""/>
            <p:cNvSpPr/>
            <p:nvPr/>
          </p:nvSpPr>
          <p:spPr>
            <a:xfrm>
              <a:off x="1981080" y="380880"/>
              <a:ext cx="7162920" cy="83844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4a205"/>
                </a:solidFill>
                <a:latin typeface="Arial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2152800" y="517680"/>
              <a:ext cx="6771960" cy="590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4000" cy="2752560"/>
          </a:xfrm>
          <a:prstGeom prst="rect">
            <a:avLst/>
          </a:prstGeom>
          <a:solidFill>
            <a:srgbClr val="480e0e">
              <a:alpha val="9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228600" rIns="228600" tIns="457200" bIns="4572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4a205"/>
                </a:solidFill>
                <a:latin typeface="Arial"/>
              </a:rPr>
              <a:t>Click to edit the title text format</a:t>
            </a:r>
            <a:endParaRPr b="0" i="1" lang="en-US" sz="6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CD63-E27F-4AF1-9A06-8B46441E225E}" type="slidenum">
              <a:rPr b="0" lang="en-US" sz="1400" spc="-1" strike="noStrike">
                <a:solidFill>
                  <a:srgbClr val="ffffff"/>
                </a:solidFill>
                <a:latin typeface="Myriad Pr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81080" y="380880"/>
            <a:ext cx="7162920" cy="838440"/>
            <a:chOff x="1981080" y="380880"/>
            <a:chExt cx="7162920" cy="838440"/>
          </a:xfrm>
        </p:grpSpPr>
        <p:sp>
          <p:nvSpPr>
            <p:cNvPr id="48" name=""/>
            <p:cNvSpPr/>
            <p:nvPr/>
          </p:nvSpPr>
          <p:spPr>
            <a:xfrm>
              <a:off x="1981080" y="380880"/>
              <a:ext cx="7162920" cy="83844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4a205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2152800" y="517680"/>
              <a:ext cx="677196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59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a2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  <a:p>
            <a:pPr lvl="2" marL="345960" algn="ctr">
              <a:spcBef>
                <a:spcPts val="499"/>
              </a:spcBef>
              <a:buClr>
                <a:srgbClr val="e4a20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3" marL="568440" algn="ctr">
              <a:spcBef>
                <a:spcPts val="499"/>
              </a:spcBef>
              <a:buClr>
                <a:srgbClr val="e4a20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4" marL="798480" algn="ctr">
              <a:spcBef>
                <a:spcPts val="499"/>
              </a:spcBef>
              <a:buClr>
                <a:srgbClr val="e4a20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5" marL="798480">
              <a:spcBef>
                <a:spcPts val="499"/>
              </a:spcBef>
              <a:buClr>
                <a:srgbClr val="e4a2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  <a:p>
            <a:pPr lvl="6" marL="798480">
              <a:spcBef>
                <a:spcPts val="499"/>
              </a:spcBef>
              <a:buClr>
                <a:srgbClr val="e4a20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a20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921040"/>
            <a:ext cx="9144000" cy="1838160"/>
          </a:xfrm>
          <a:prstGeom prst="rect">
            <a:avLst/>
          </a:prstGeom>
          <a:solidFill>
            <a:srgbClr val="480e0e">
              <a:alpha val="9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228600" rIns="228600" tIns="457200" bIns="4572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4a205"/>
                </a:solidFill>
                <a:latin typeface="Arial"/>
              </a:rPr>
              <a:t>Beginnings &amp; Separation</a:t>
            </a:r>
            <a:endParaRPr b="0" i="1" lang="en-US" sz="6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ell, I fee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Like I have to fee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Something good all of the ti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ith most of life I cannot dea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But a good feeling I can feel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Even though it may not be real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if a person, place or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ing can deliver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I will quiver with deligh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But will it last m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for all my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Or just one more lonely nigh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39920"/>
            <a:ext cx="8229600" cy="32162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lust, the fles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eye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rain the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Right out of 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ell, I see something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I want i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Bam! Right now!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No questions asked 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on't worry how much i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costs me now or later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I want it and I want it fas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I'll go to any lengt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Sacrifice all that I already hav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all that I might get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Just to ge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Something more that I don't need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Lord, please don'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sk me what for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39920"/>
            <a:ext cx="8229600" cy="32162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lust, the fles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eye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rain the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Right out of 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98560"/>
            <a:ext cx="8229600" cy="229860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If you could imagine the world 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the way it should be, 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at would it be like? 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266688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I love when folk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Look right at m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what I'm doing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Or have don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lay it on abou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How groovy I am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at I'm looking grand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21200"/>
            <a:ext cx="8229600" cy="156816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every single word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Makes me think I'll live forever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89280"/>
            <a:ext cx="8229600" cy="21175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Never knowing that they probably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Won't remember what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y said tomorrow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38280"/>
            <a:ext cx="8229600" cy="101916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omorrow I could be dead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39920"/>
            <a:ext cx="8229600" cy="32162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lust, the flesh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The eyes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Drain the life</a:t>
            </a:r>
            <a:br>
              <a:rPr sz="3600"/>
            </a:br>
            <a:r>
              <a:rPr b="0" lang="en-US" sz="3600" spc="-1" strike="noStrike">
                <a:solidFill>
                  <a:srgbClr val="e4a205"/>
                </a:solidFill>
                <a:latin typeface="Arial"/>
              </a:rPr>
              <a:t>Right out of me</a:t>
            </a:r>
            <a:endParaRPr b="0" lang="en-US" sz="3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229896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If what we learned today is true, how does/should it affect your life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6891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How would it affect us as a community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6891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How would it affect others…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our neighborhood, our city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921040"/>
            <a:ext cx="9144000" cy="1838160"/>
          </a:xfrm>
          <a:prstGeom prst="rect">
            <a:avLst/>
          </a:prstGeom>
          <a:solidFill>
            <a:srgbClr val="480e0e">
              <a:alpha val="9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228600" rIns="228600" tIns="457200" bIns="4572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4a205"/>
                </a:solidFill>
                <a:latin typeface="Arial"/>
              </a:rPr>
              <a:t>Beginnings &amp; Separation</a:t>
            </a:r>
            <a:endParaRPr b="0" i="1" lang="en-US" sz="6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0"/>
            <a:ext cx="8229600" cy="153684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e4a205"/>
                </a:solidFill>
                <a:latin typeface="Arial"/>
              </a:rPr>
              <a:t>WALKING IT OUT…</a:t>
            </a:r>
            <a:br>
              <a:rPr sz="4800"/>
            </a:br>
            <a:r>
              <a:rPr b="0" i="1" lang="en-US" sz="2200" spc="-1" strike="noStrike">
                <a:solidFill>
                  <a:srgbClr val="e4a205"/>
                </a:solidFill>
                <a:latin typeface="Arial"/>
              </a:rPr>
              <a:t>Engage the Story more deeply with each other this week.</a:t>
            </a:r>
            <a:endParaRPr b="0" lang="en-US" sz="22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98560"/>
            <a:ext cx="8229600" cy="229860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at would change if our identity depended on the </a:t>
            </a:r>
            <a:r>
              <a:rPr b="0" i="1" lang="en-US" sz="4000" spc="-1" strike="noStrike">
                <a:solidFill>
                  <a:srgbClr val="e4a205"/>
                </a:solidFill>
                <a:latin typeface="Arial"/>
              </a:rPr>
              <a:t>Imago Dei</a:t>
            </a: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for our worth? 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229600" cy="16891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y are we here?</a:t>
            </a:r>
            <a:br>
              <a:rPr sz="4000"/>
            </a:b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What is our purpose?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e796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079640"/>
          </a:xfrm>
          <a:prstGeom prst="rect">
            <a:avLst/>
          </a:prstGeom>
          <a:solidFill>
            <a:srgbClr val="480e0e"/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a205"/>
                </a:solidFill>
                <a:latin typeface="Arial"/>
              </a:rPr>
              <a:t>The American Story</a:t>
            </a:r>
            <a:endParaRPr b="0" lang="en-US" sz="40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760" y="144792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Birth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19360" y="144792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9800" y="144792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Colleg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45280" y="144792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tarter Job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5280" y="318600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tarter Marriag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7760" y="318600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e4a205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 Marriag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0800" y="318600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2.5 Kids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18600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Picket Fence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51760" y="495288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7760" y="4952880"/>
            <a:ext cx="164448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Secure Job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12880" y="495288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Dump Kids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9800" y="4952880"/>
            <a:ext cx="1644840" cy="1371600"/>
          </a:xfrm>
          <a:prstGeom prst="rect">
            <a:avLst/>
          </a:prstGeom>
          <a:solidFill>
            <a:srgbClr val="480e0e">
              <a:alpha val="85000"/>
            </a:srgbClr>
          </a:solidFill>
          <a:ln w="9360">
            <a:solidFill>
              <a:srgbClr val="48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a205"/>
                </a:solidFill>
                <a:latin typeface="Arial"/>
              </a:rPr>
              <a:t>Retire to Florida</a:t>
            </a:r>
            <a:endParaRPr b="0" lang="en-US" sz="24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213840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98360" y="390528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98720" y="567216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75000" y="2138400"/>
            <a:ext cx="594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275000" y="3905280"/>
            <a:ext cx="594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75000" y="5672160"/>
            <a:ext cx="594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31120" y="213840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530760" y="390528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31120" y="5672160"/>
            <a:ext cx="5936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51680" y="2822400"/>
            <a:ext cx="0" cy="38124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4557600"/>
            <a:ext cx="0" cy="38124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6200"/>
            <a:ext cx="8229600" cy="2560320"/>
          </a:xfrm>
          <a:prstGeom prst="rect">
            <a:avLst/>
          </a:prstGeom>
          <a:solidFill>
            <a:srgbClr val="480e0e">
              <a:alpha val="85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274320" rIns="274320" tIns="228600" bIns="22860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e4a205"/>
                </a:solidFill>
                <a:latin typeface="Arial"/>
              </a:rPr>
              <a:t>The Lust, the Flesh, the Eyes </a:t>
            </a:r>
            <a:br>
              <a:rPr sz="4600"/>
            </a:br>
            <a:r>
              <a:rPr b="0" i="1" lang="en-US" sz="4600" spc="-1" strike="noStrike">
                <a:solidFill>
                  <a:srgbClr val="e4a205"/>
                </a:solidFill>
                <a:latin typeface="Arial"/>
              </a:rPr>
              <a:t>and the Pride of Life</a:t>
            </a:r>
            <a:endParaRPr b="0" lang="en-US" sz="4600" spc="-1" strike="noStrike">
              <a:solidFill>
                <a:srgbClr val="e4a20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23:42:49Z</dcterms:created>
  <dc:creator>Jessica Phay User</dc:creator>
  <dc:description/>
  <dc:language>en-US</dc:language>
  <cp:lastModifiedBy>Jessica Phay User</cp:lastModifiedBy>
  <dcterms:modified xsi:type="dcterms:W3CDTF">2009-04-23T15:36:00Z</dcterms:modified>
  <cp:revision>4</cp:revision>
  <dc:subject/>
  <dc:title>Beginnings &amp; Separation</dc:title>
</cp:coreProperties>
</file>