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7FD4D9-E09B-4CE6-9856-6EDE4871CF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567316-730C-4886-B73E-AE15832997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67BEFD-0E40-4C17-B749-FB1F1DF8A7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AEF2DE-71FC-4432-BF21-FC27791746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E128CC-C1A9-47A2-B60A-7F9012B54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D9D38D-01D4-4C78-8329-E1FD29B65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0BAF83-0E87-4C97-86B0-90A06782CA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25E4AE-14A1-4A67-AB15-3D3F65FFE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7A1567-2131-4D58-933C-B3D6ECA039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63F3CE-7005-4260-8FB2-2F99F01695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D2D54-9BDB-4499-B872-576B7BED40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457183-B62B-4D07-B99C-F6B6860AAD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47D7D-53F9-4B1A-8193-222DAF27A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9B8018-58E1-4125-91DA-DD8DC5311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C5E8DB-35B2-48F2-9FC1-72C3862EC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E5D67C-0207-4033-A526-430E0DC526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1EB37B-2DD5-4D5F-9480-4CD11322FF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DDB354-E852-48CC-A98C-E4C04A9A7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9619A9-D89B-462E-9EB7-705246613A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B6AAF6-B450-41B6-A49F-1CB4BB1721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CB8B8E-8E7B-4102-9B25-C5DCF37037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59767B-E99E-4A43-BBB6-9E53269E2A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55386B-BC86-4BA8-A722-3B36C1E4D2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4B4A07-65B9-41B6-89D5-2AFDF6E072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6CB5-3A87-4A15-B3B7-22F52F9AD650}"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0860-8B83-4704-8D1D-ECFC77204A4D}"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Mission and Power</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are your thoughts after hearing this story of the Moravian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do you see the Moravians fulfilling the mission Jesus gave to his discipl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 you think the motivation was behind the Moravians “going and making” of discipl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4a205"/>
                </a:solidFill>
                <a:latin typeface="Arial"/>
              </a:rPr>
              <a:t>May the Lamb that was slain receive the rewards of his suffering!</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learned today is true, how does/should it affect your life?</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12920"/>
            <a:ext cx="8229600" cy="5316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000" spc="-1" strike="noStrike">
                <a:solidFill>
                  <a:srgbClr val="e4a205"/>
                </a:solidFill>
                <a:latin typeface="Arial"/>
              </a:rPr>
              <a:t>We looked at Jesus’ death and resurrection. We saw that Jesus is the Passover Lamb that takes away the sins of the world. He died as a substitute for us—taking our sins and punishment upon himself. He came offering forgiveness—not judgment. But we also learned that Jesus taught that people bring judgment on themselves by not obeying his teaching and commands.</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387440"/>
            <a:ext cx="8229600" cy="485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i="1" lang="en-US" sz="4000" spc="-1" strike="noStrike">
                <a:solidFill>
                  <a:srgbClr val="e4a205"/>
                </a:solidFill>
                <a:latin typeface="Arial"/>
              </a:rPr>
              <a:t>	</a:t>
            </a:r>
            <a:r>
              <a:rPr b="0" i="1" lang="en-US" sz="4000" spc="-1" strike="noStrike">
                <a:solidFill>
                  <a:srgbClr val="e4a205"/>
                </a:solidFill>
                <a:latin typeface="Arial"/>
              </a:rPr>
              <a:t>	</a:t>
            </a:r>
            <a:r>
              <a:rPr b="0" lang="en-US" sz="4000" spc="-1" strike="noStrike">
                <a:solidFill>
                  <a:srgbClr val="e4a205"/>
                </a:solidFill>
                <a:latin typeface="Arial"/>
              </a:rPr>
              <a:t>Jesus is Lord over:</a:t>
            </a:r>
            <a:br>
              <a:rPr sz="4000"/>
            </a:b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Salvation…</a:t>
            </a:r>
            <a:br>
              <a:rPr sz="4000"/>
            </a:b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Sin and death… </a:t>
            </a:r>
            <a:br>
              <a:rPr sz="4000"/>
            </a:b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Righteousness… </a:t>
            </a:r>
            <a:br>
              <a:rPr sz="4000"/>
            </a:b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Humanity… </a:t>
            </a:r>
            <a:br>
              <a:rPr sz="4000"/>
            </a:b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Everything!</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51280"/>
            <a:ext cx="8229600" cy="17352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i="1" lang="en-US" sz="3500" spc="-1" strike="noStrike">
                <a:solidFill>
                  <a:srgbClr val="e4a205"/>
                </a:solidFill>
                <a:latin typeface="Arial"/>
              </a:rPr>
              <a:t>Is Jesus Lord over your heart and life?</a:t>
            </a:r>
            <a:endParaRPr b="0" lang="en-US" sz="35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Mission and Power</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337760"/>
            <a:ext cx="8229600" cy="53247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4a205"/>
                </a:solidFill>
                <a:latin typeface="Arial"/>
              </a:rPr>
              <a:t>Jesus said, </a:t>
            </a:r>
            <a:r>
              <a:rPr b="0" i="1" lang="en-US" sz="2900" spc="-1" strike="noStrike">
                <a:solidFill>
                  <a:srgbClr val="e4a205"/>
                </a:solidFill>
                <a:latin typeface="Arial"/>
              </a:rPr>
              <a:t>“I have been given all authority in heaven and on earth. Therefore, go and make disciples of all the nations, all over the world. Baptize these new disciples in the name of the Father and the Son and the Holy Spirit. Teach them to obey all the commands I have given you and to walk in my ways. And be sure of this: I am with you always, even to the end of the age. God’s Spirit will come and live inside of you</a:t>
            </a:r>
            <a:r>
              <a:rPr b="0" lang="en-US" sz="2900" spc="-1" strike="noStrike">
                <a:solidFill>
                  <a:srgbClr val="e4a205"/>
                </a:solidFill>
                <a:latin typeface="Arial"/>
              </a:rPr>
              <a:t>—</a:t>
            </a:r>
            <a:r>
              <a:rPr b="0" i="1" lang="en-US" sz="2900" spc="-1" strike="noStrike">
                <a:solidFill>
                  <a:srgbClr val="e4a205"/>
                </a:solidFill>
                <a:latin typeface="Arial"/>
              </a:rPr>
              <a:t>giving you peace and leading you in all the ways of truth.”</a:t>
            </a:r>
            <a:r>
              <a:rPr b="0" lang="en-US" sz="2900" spc="-1" strike="noStrike">
                <a:solidFill>
                  <a:srgbClr val="e4a205"/>
                </a:solidFill>
                <a:latin typeface="Arial"/>
              </a:rPr>
              <a:t> </a:t>
            </a:r>
            <a:endParaRPr b="0" lang="en-US" sz="2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9680"/>
            <a:ext cx="8229600" cy="32133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Mark 16:20</a:t>
            </a:r>
            <a:br>
              <a:rPr sz="2000"/>
            </a:br>
            <a:r>
              <a:rPr b="0" lang="en-US" sz="4000" spc="-1" strike="noStrike">
                <a:solidFill>
                  <a:srgbClr val="e4a205"/>
                </a:solidFill>
                <a:latin typeface="Arial"/>
              </a:rPr>
              <a:t>Then the disciples went out and preached everywhere, and the Lord worked with them and confirmed his wor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9680"/>
            <a:ext cx="8229600" cy="32133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1 Corinthians 1:18</a:t>
            </a:r>
            <a:br>
              <a:rPr sz="2000"/>
            </a:br>
            <a:r>
              <a:rPr b="0" lang="en-US" sz="4000" spc="-1" strike="noStrike">
                <a:solidFill>
                  <a:srgbClr val="e4a205"/>
                </a:solidFill>
                <a:latin typeface="Arial"/>
              </a:rPr>
              <a:t>For the message of the cross is foolishness to those who are perishing, but to us who are being saved it is the power of Go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1:50:33Z</dcterms:created>
  <dc:creator>Jessica Phay User</dc:creator>
  <dc:description/>
  <dc:language>en-US</dc:language>
  <cp:lastModifiedBy>Jessica Phay User</cp:lastModifiedBy>
  <dcterms:modified xsi:type="dcterms:W3CDTF">2009-04-23T17:13:20Z</dcterms:modified>
  <cp:revision>7</cp:revision>
  <dc:subject/>
  <dc:title>The Mission and Power</dc:title>
</cp:coreProperties>
</file>