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246578-59BD-4CD4-BBC7-B1F8EA5A77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653DCF-547D-46E6-A597-9AE4FE6462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66FAC0-4649-49B5-88E4-D9D94BE05E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115612-E19C-4148-85AA-A087785170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48BB83-1626-4AEC-B9FB-9D98329155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B81813-C5C9-4E90-87A8-3CE8367BB7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AC1A6B-42D2-4FBD-9939-927F0ACC4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DFBAC1-47FE-4E6A-B27C-A7CF09CFE2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9F7DF6-B9BE-48D2-9D94-DCDBC47979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966AA4-D79E-49B1-A29E-0235F299F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A8D45E-35BF-4614-8ED4-EDF779175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CF03E0-ED14-46B4-9E1A-8282ADE8B9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2AF8C6-D6AC-4E67-9DC4-F6D0D8F71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09D0E2-E2CA-43A1-B306-DF4C3B6488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564E0B-0F4A-42F3-B174-878CAAFCE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38903B-B1A7-4C03-BF33-641C1E8950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54DBD7-A516-43E7-A699-59322B4855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53046E-B778-4448-A5CB-3DAA2B03D6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6DF537-EAA0-4136-9356-F38749A445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B436D6-4521-44AB-8107-B7E65A1CCD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CBAACB-ACF9-4A79-9214-9ED6222291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A31581-AFA4-47BE-96F4-61E89A5AAF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F2BCBF-82A8-4F3E-A158-29FB064048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6BDB7E-431F-4690-8BE9-9A7ABC8386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45E9-8C2E-446F-9D8C-2D1256405A30}"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463840"/>
            <a:ext cx="9144000" cy="2752560"/>
          </a:xfrm>
          <a:prstGeom prst="rect">
            <a:avLst/>
          </a:prstGeom>
          <a:solidFill>
            <a:srgbClr val="480e0e">
              <a:alpha val="90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Click to edit the title text format</a:t>
            </a:r>
            <a:endParaRPr b="0" i="1" lang="en-US" sz="60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3179-A274-4605-B9A2-0D65BC60EB51}"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90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A People of God</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362320"/>
            <a:ext cx="8229600" cy="29080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would it look like to </a:t>
            </a:r>
            <a:br>
              <a:rPr sz="4000"/>
            </a:br>
            <a:r>
              <a:rPr b="0" lang="en-US" sz="4000" spc="-1" strike="noStrike">
                <a:solidFill>
                  <a:srgbClr val="e4a205"/>
                </a:solidFill>
                <a:latin typeface="Arial"/>
              </a:rPr>
              <a:t>start letting God decide </a:t>
            </a:r>
            <a:br>
              <a:rPr sz="4000"/>
            </a:br>
            <a:r>
              <a:rPr b="0" lang="en-US" sz="4000" spc="-1" strike="noStrike">
                <a:solidFill>
                  <a:srgbClr val="e4a205"/>
                </a:solidFill>
                <a:latin typeface="Arial"/>
              </a:rPr>
              <a:t>the right use of your life? </a:t>
            </a:r>
            <a:br>
              <a:rPr sz="4000"/>
            </a:br>
            <a:r>
              <a:rPr b="0" lang="en-US" sz="4000" spc="-1" strike="noStrike">
                <a:solidFill>
                  <a:srgbClr val="e4a205"/>
                </a:solidFill>
                <a:latin typeface="Arial"/>
              </a:rPr>
              <a:t>What would have to change? </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Abraham looking at the stars</a:t>
            </a:r>
            <a:endParaRPr b="0" lang="en-US" sz="4000" spc="-1" strike="noStrike">
              <a:solidFill>
                <a:srgbClr val="e4a205"/>
              </a:solidFill>
              <a:latin typeface="Arial"/>
            </a:endParaRPr>
          </a:p>
        </p:txBody>
      </p:sp>
      <p:sp>
        <p:nvSpPr>
          <p:cNvPr id="98"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4a205"/>
              </a:solidFill>
              <a:latin typeface="Arial"/>
            </a:endParaRPr>
          </a:p>
        </p:txBody>
      </p:sp>
      <p:pic>
        <p:nvPicPr>
          <p:cNvPr id="99" name="" descr=""/>
          <p:cNvPicPr/>
          <p:nvPr/>
        </p:nvPicPr>
        <p:blipFill>
          <a:blip r:embed="rId2"/>
          <a:srcRect l="2601" t="3122" r="40506" b="2606"/>
          <a:stretch/>
        </p:blipFill>
        <p:spPr>
          <a:xfrm>
            <a:off x="2919240" y="0"/>
            <a:ext cx="3024360" cy="689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87640"/>
            <a:ext cx="8229600" cy="16574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4a205"/>
                </a:solidFill>
                <a:latin typeface="Arial"/>
              </a:rPr>
              <a:t>If what we learned today is true, how does/should it affect your life?</a:t>
            </a:r>
            <a:endParaRPr b="0" lang="en-US" sz="39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us as a commun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others…</a:t>
            </a:r>
            <a:br>
              <a:rPr sz="4000"/>
            </a:br>
            <a:r>
              <a:rPr b="0" lang="en-US" sz="4000" spc="-1" strike="noStrike">
                <a:solidFill>
                  <a:srgbClr val="e4a205"/>
                </a:solidFill>
                <a:latin typeface="Arial"/>
              </a:rPr>
              <a:t>our neighborhood, our c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98360"/>
            <a:ext cx="8229600" cy="36385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learned that all humans sin—choose self over God in their hearts.  And God looks at the heart, not just actions. God shows mercy and grace even while justly punishing human rebellion.</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98360"/>
            <a:ext cx="8229600" cy="36385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saw that self and sin lead to separation and death, while obedience leads to life and relationship with God.  God also says life is in the blood and all life belongs to him.</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06680"/>
            <a:ext cx="8229600" cy="26208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100" spc="-1" strike="noStrike">
                <a:solidFill>
                  <a:srgbClr val="e4a205"/>
                </a:solidFill>
                <a:latin typeface="Arial"/>
              </a:rPr>
              <a:t>We also discussed what it means that God has created and commanded us to be fruitful.</a:t>
            </a:r>
            <a:endParaRPr b="0" lang="en-US" sz="31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06400"/>
            <a:ext cx="8229600" cy="24210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4000" spc="-1" strike="noStrike">
                <a:solidFill>
                  <a:srgbClr val="e4a205"/>
                </a:solidFill>
                <a:latin typeface="Arial"/>
              </a:rPr>
              <a:t>What really stuck with you from our last time together?</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21040"/>
            <a:ext cx="9144000" cy="1838160"/>
          </a:xfrm>
          <a:prstGeom prst="rect">
            <a:avLst/>
          </a:prstGeom>
          <a:solidFill>
            <a:srgbClr val="480e0e">
              <a:alpha val="90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A People of God</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 you think it means to be </a:t>
            </a:r>
            <a:r>
              <a:rPr b="0" i="1" lang="en-US" sz="4000" spc="-1" strike="noStrike">
                <a:solidFill>
                  <a:srgbClr val="e4a205"/>
                </a:solidFill>
                <a:latin typeface="Arial"/>
              </a:rPr>
              <a:t>righteous</a:t>
            </a:r>
            <a:r>
              <a:rPr b="0" lang="en-US" sz="4000" spc="-1" strike="noStrike">
                <a:solidFill>
                  <a:srgbClr val="e4a205"/>
                </a:solidFill>
                <a:latin typeface="Arial"/>
              </a:rPr>
              <a:t>?</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o ultimately should decide/declare the right use of our lives, talents, time, energ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o usually decides those things in your life?</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00:05:52Z</dcterms:created>
  <dc:creator>Jessica Phay User</dc:creator>
  <dc:description/>
  <dc:language>en-US</dc:language>
  <cp:lastModifiedBy>Jessica Phay User</cp:lastModifiedBy>
  <dcterms:modified xsi:type="dcterms:W3CDTF">2009-04-23T17:49:28Z</dcterms:modified>
  <cp:revision>5</cp:revision>
  <dc:subject/>
  <dc:title>A People of God</dc:title>
</cp:coreProperties>
</file>